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6BD7-D505-4C40-B5F9-C88810445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0A98-0E09-462A-AD09-A53436AB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691A-DDBC-4DAF-9ADD-9CBD0B16F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4229-3059-40D2-867B-A5329C5EF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8DA7-9872-4EFE-A38F-933B23502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8A21-C24F-41C3-9D51-CA3A6BA7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FC92-013D-410E-A19B-2BCE9C93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F3C6-3624-42F2-A718-60EF367A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3175-F223-4C08-A883-659C915D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67F1-86E0-4D59-9016-05E2C40C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A6D8-BB4F-4218-A763-81A85996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6148-6262-4F06-AD76-94EDDDBF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440F-F781-4C38-B5B4-B5A10A85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EF02-9470-4F96-BB21-4694374C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296C-3A52-4441-BFF1-BC80F87C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0B6A-8452-49AA-A6BA-8F4A3EEB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DC2F-D2AC-4AB8-BF41-554021BB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4F87-99F6-485A-9AF5-A6EFF0DF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7DB6-9A7B-4E6C-AC5F-8D173274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2E36-D823-4682-B607-8F2341A1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3230-C944-45AF-AE3D-5B869974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0A93-CBCD-409A-B588-D6FCC0ED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912E-B0A7-4B63-B65B-88D53F5D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C9BC-991D-4D82-895C-78514114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AE7F-4E3B-4178-B1F4-ECC2C5B55FEC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B2FF-BF7F-4C8C-BEEF-9B8DDA98889D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www.1ydt.com/video/n_show/Nav_15/9BF31C7F_1.htm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hyperlink" Target="http://www.1ydt.com/video/n_show/Nav_15/9BF31C7F_1.htm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hyperlink" Target="http://www.1ydt.com/video/n_show/Nav_15/9BF31C7F_1.ht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www.1ydt.com/video/n_show/Nav_15/9BF31C7F_1.ht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352680" y="7621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有人说，若中国人不知道有孔子，不能算是有思想的中国人；知道了孔子，而不知道《论语》，也不能算是有思想的中国人。“半部《论语》治天下”，它形象地概括了这部儒家经典对后世的卓越贡献。今天，就让我们走近孔子，随着这位“万世师表”一起去探讨学习方法、学习态度以及如何修身做人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2971800" cy="39621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14400" y="533412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dc5900"/>
                </a:solidFill>
                <a:uFillTx/>
                <a:latin typeface="Arial"/>
                <a:ea typeface="仿宋_GB2312"/>
                <a:hlinkClick r:id="rId3"/>
              </a:rPr>
              <a:t>点此播放视频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15440" y="1195560"/>
            <a:ext cx="608436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听读课文，扫除语言障碍。特别注意加线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的音、形、义。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人不知而不</a:t>
            </a:r>
            <a:r>
              <a:rPr b="0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愠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     ）    学而不思则</a:t>
            </a:r>
            <a:r>
              <a:rPr b="0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罔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        ）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思而不学则</a:t>
            </a:r>
            <a:r>
              <a:rPr b="0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殆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     ）     不亦</a:t>
            </a:r>
            <a:r>
              <a:rPr b="0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说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     ）乎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传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          ）不习乎       不如</a:t>
            </a:r>
            <a:r>
              <a:rPr b="0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好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         ）之者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20600" y="236232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yùn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88040" y="231624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wǎng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21320" y="3124080"/>
            <a:ext cx="7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dài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44680" y="304812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yu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45640" y="380988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chuán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7320" y="384012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hào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048120" y="1676520"/>
            <a:ext cx="507960" cy="507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886200" y="502920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dc5900"/>
                </a:solidFill>
                <a:uFillTx/>
                <a:latin typeface="Arial"/>
                <a:ea typeface="仿宋_GB2312"/>
                <a:hlinkClick r:id="rId3"/>
              </a:rPr>
              <a:t>点此播放教学视频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78102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36600" y="1157760"/>
            <a:ext cx="6854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子曰：“学（       ）而（             ）时（         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习（          ）之，不亦（          ）说（           ）乎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有朋自远方来，不亦乐乎？人不知（          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而（               ）愠（            ）不亦君子乎？”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29080" y="3215160"/>
            <a:ext cx="5482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孔子说：“学了又按时复习，不也是很喜悦的吗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有朋友从远方来，不也是很快乐的吗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?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人们不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解我，我却不怨恨生气，不也是一个品德高尚的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人吗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?”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2160" y="5333040"/>
            <a:ext cx="582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课文探究 第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句讲：学习方法 第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句讲：学习的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乐趣 第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句讲：个人修养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26480" y="1112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学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88920" y="11588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表顺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50760" y="1158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按时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1569960"/>
            <a:ext cx="99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复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1616040"/>
            <a:ext cx="99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也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720" y="1616040"/>
            <a:ext cx="9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同“悦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15680" y="2073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了解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35000" y="2606760"/>
            <a:ext cx="23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表转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43880" y="2606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生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8520" y="15228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课文翻译与分析（一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18520" y="1075320"/>
            <a:ext cx="6926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曾子曰：“吾（     ）日（           ）三（         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省（            ）吾身：为（          ）人 谋（       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而（           ）不忠乎？与朋友交而（              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不信（           ）乎？传（                    ）不习乎？”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0" y="3550320"/>
            <a:ext cx="5529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曾子说：“我每天多次反省自己——替人家谋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是否真诚尽心？和朋友交往是否诚实？传授的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学业是否复习了？”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85000" y="5363280"/>
            <a:ext cx="488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课文探究  本章强调治学的人重视品德修养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26000" y="1076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36160" y="1030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每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68320" y="1076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多次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30840" y="1533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反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83400" y="1533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29040" y="15336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出主意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74920" y="20210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表转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28240" y="20210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表转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12080" y="25239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诚信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21120" y="2523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传授的知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71720" y="15228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课文翻译与分析（二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20600" y="1432440"/>
            <a:ext cx="8794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子曰：“吾十有（          ）五而（           ）志于学，三十而立（       ），四十而（           ）不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（       ），五十而（            ）知天命（             ），六十而（              ）耳顺，七十而（             ）从心所欲，不逾（         ）矩（           ）。”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320" y="476928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我十五岁开始立志学习，三十岁能自立于世，四十岁遇事能不迷惑，五十岁了解并顺应了自然规律，六十岁对各种言论能明辨是非，到七十岁才可以随心所欲，又不会超出规矩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1120" y="1447920"/>
            <a:ext cx="9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通“又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23520" y="28494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表顺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72280" y="1905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独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79840" y="28494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表顺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4880" y="2392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迷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52520" y="19051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表顺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51680" y="2362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自然规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28840" y="14018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表顺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1280" y="2362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表顺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86680" y="3352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超过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644080" y="3352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规范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71720" y="30492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课文翻译与分析（三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412200"/>
            <a:ext cx="8871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课文探究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，本章是孔子自述他学习和提高修养的过程。  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，从本章来看，学习和修养的过程可分为几个阶段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，道德修养的最高境界是怎样的？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，我们从这一章中可以得到什么启示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70760" y="2057400"/>
            <a:ext cx="547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Times New Roman"/>
              </a:rPr>
              <a:t>十五岁到四十岁：学习领会     五十、六十岁：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Times New Roman"/>
              </a:rPr>
              <a:t>心立命，不受外界左右    七十：主观意识和做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Times New Roman"/>
              </a:rPr>
              <a:t>规则融合为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79480" y="3962520"/>
            <a:ext cx="505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Times New Roman"/>
              </a:rPr>
              <a:t>思想与言行融合，自觉遵守道德规范，而不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Times New Roman"/>
              </a:rPr>
              <a:t>勉强去做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14360" y="5486400"/>
            <a:ext cx="9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Times New Roman"/>
              </a:rPr>
              <a:t>道德修养并非一朝一夕可以完成，要经过长时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Times New Roman"/>
              </a:rPr>
              <a:t>的学习，循序渐进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055520" y="1510200"/>
            <a:ext cx="7143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子曰：“温（        ）故（                ） 而（        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知新（                ），可（          ）以（         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为（           ）师矣。”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52840" y="3169440"/>
            <a:ext cx="530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孔子说：复习旧的知识，并从中获得新的领悟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做到这样的程度，可以成为老师了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74520" y="4388400"/>
            <a:ext cx="30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课文探究 本章谈学习方法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26480" y="1494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复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9360" y="1494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旧的知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1447920"/>
            <a:ext cx="14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表顺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41240" y="1981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新的领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29680" y="1981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可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68320" y="1981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凭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30840" y="2484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成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71720" y="38088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课文翻译与分析（四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8680" y="1767600"/>
            <a:ext cx="62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子曰：“学而（               ）不思则罔（         ）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思而（              ）不学则殆（         ）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33760" y="3123360"/>
            <a:ext cx="520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孔子说：“只学习不思考，便会迷惑而无所得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只空想而不学习，就会有害。”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99920" y="4494960"/>
            <a:ext cx="526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课文探究  本章讲学习方法，阐述学习与思考的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辩证关系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93440" y="22096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表转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69880" y="1706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迷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33000" y="175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表转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1320" y="2209680"/>
            <a:ext cx="99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有害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71720" y="15228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课文翻译与分析（五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650600" y="1126080"/>
            <a:ext cx="576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子曰：“ 贤（                ）哉，回也！一箪食，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瓢饮，在陋巷，人不堪（         ）其忧，回也不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其乐（                 ）。贤哉，回也！”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30480" y="3000960"/>
            <a:ext cx="4635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孔子说：“颜回的品质是多么高尚啊！一箪饭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一瓢水，住在简陋的小屋里，别人都忍受不了这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种清苦，颜回却不改变他好学的乐趣。颜回的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质是多么高尚啊！”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25120" y="5485320"/>
            <a:ext cx="526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课文探究  本章赞扬了颜回乐于学习、安于贫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的品质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65160" y="1081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品德高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06000" y="1614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忍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45720" y="20718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乐于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71720" y="15228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课文翻译与分析（六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26200" y="1203840"/>
            <a:ext cx="760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子曰：“知之（                            ）者（              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不如好（                     ）之者，好之者不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乐（                                   ）之者。”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25840" y="2910600"/>
            <a:ext cx="544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孔子说：“对于学习，了解怎么学习的人，不如爱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好学习的人；爱好学习的人，又不如以学习为乐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的人。”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40880" y="4723560"/>
            <a:ext cx="537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课文探究  本章阐述了学习态度：以学习为快乐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85960" y="1189080"/>
            <a:ext cx="30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代词，指代学问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05720" y="11890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 … …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的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54240" y="1646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喜欢，爱好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18640" y="2149560"/>
            <a:ext cx="190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以… …为乐趣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15228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课文翻译与分析（七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338480" y="1264320"/>
            <a:ext cx="6508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子曰：“饭（        ）疏（        ）食饮水（        ）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曲肱（                 ）而（                ）枕之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乐（                ）亦在其中矣。不义（            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而富且贵，于（                  ）我如浮云。”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20800" y="3885120"/>
            <a:ext cx="520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孔子说：“吃粗粮，喝冷水，弯着胳膊当枕头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乐趣也就在这中间了。用不正当的手段得来的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富贵，对于我来讲就像是天上的浮云一样。”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75400" y="6049080"/>
            <a:ext cx="35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课文探究 本章讲人的道德修养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56280" y="2239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正当手段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69480" y="2666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对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26480" y="1249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吃饭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07560" y="1249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粗粮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403040" y="1249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冷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74800" y="1706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弯着胳膊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741200" y="1782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表顺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59440" y="2239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乐趣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71720" y="15228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课文翻译与分析（八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9" descr="xinsrc_a39e4549d4074182a9360c0b23d2425b_km_27"/>
          <p:cNvPicPr/>
          <p:nvPr/>
        </p:nvPicPr>
        <p:blipFill>
          <a:blip r:embed="rId2"/>
          <a:stretch/>
        </p:blipFill>
        <p:spPr>
          <a:xfrm>
            <a:off x="457200" y="228600"/>
            <a:ext cx="8075520" cy="53848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3"/>
          <p:cNvSpPr/>
          <p:nvPr/>
        </p:nvSpPr>
        <p:spPr>
          <a:xfrm>
            <a:off x="685800" y="52578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                                                 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《论语》</a:t>
            </a: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十二章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511640" y="1340280"/>
            <a:ext cx="636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子曰：“三（      ）人行，必有我师焉（            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择其善者而（              ）从（             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之（                   ），其不善者而改之。”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08160" y="3093120"/>
            <a:ext cx="463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孔子说：“几个人一起走路，其中必定有可以作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我的老师的人。我选择他的优点向他学习，看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他不好的地方就作为借鉴，改掉自己的缺点。”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44200" y="4921920"/>
            <a:ext cx="5267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课文探究  本章讲学习态度：向一切人学习。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但要学习别人的长处，还要借鉴别人的短处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反省自己有没有类似的毛病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373840" y="1309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几个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55800" y="13096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在其中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12400" y="18129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表顺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1766880"/>
            <a:ext cx="99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跟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22701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代词，学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19440" y="30492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课文翻译与分析（九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091520" y="1523160"/>
            <a:ext cx="651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子在川（           ）上曰：“逝（             ）者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斯（              ）夫，不舍（                ）昼夜。”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614680" y="3261240"/>
            <a:ext cx="341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孔子在河边感叹道：“一去不复返的时光就像这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河水一样，日夜不停。”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42400" y="4921920"/>
            <a:ext cx="537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课文探究  本章讲时光易逝，应珍惜时间。 本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运用比喻修辞    用流水日夜不停、一去不返比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时间的飞逝，指明时间的宝贵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40200" y="1523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河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55480" y="1523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流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30720" y="1981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这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15480" y="1981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舍弃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871720" y="15228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课文翻译与分析（十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398240" y="1722960"/>
            <a:ext cx="633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子曰：“三军（        ）可夺帅也，匹夫（        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不可夺志也。”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20800" y="3504240"/>
            <a:ext cx="520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孔子说：“军队的主帅可以改变，普通人的志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却不可改变。”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57240" y="5256720"/>
            <a:ext cx="551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课文探究  本章讲一个人应当坚定信念、矢志不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00880" y="1706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军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484400" y="17064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普通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983320" y="15228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课文翻译与分析（十一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8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8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45520" y="1568880"/>
            <a:ext cx="682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子夏曰：“博（            ）学而（             ）笃志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切（             ）问而（            ）近思，仁（    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在其中矣”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860840" y="3337560"/>
            <a:ext cx="530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子夏说：“广泛地学习，坚守自己的志向，遇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明事能恳切地向别人发问，多考虑当前的问题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仁德就在其中了。”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4240" y="5439600"/>
            <a:ext cx="464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课文探究  本章讲坚定信念、广泛学习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83680" y="1523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广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00040" y="20113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表并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30840" y="2057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恳切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884200" y="1523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表并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701480" y="2011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仁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07360" y="30492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课文翻译与分析（十二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8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8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530000" y="1112760"/>
            <a:ext cx="5477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学习方法：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学而时习之。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温故而知新。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学而不思则罔，思而不学则殆。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博学而笃志，切问而近思，仁在其中矣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637720" y="4008600"/>
            <a:ext cx="352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学习态度：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知之者不如好之者，好之者不如乐之者。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三人行，必有我师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6480" y="152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课文总结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611000" y="1143000"/>
            <a:ext cx="5721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品德修养：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人不知而不愠，不亦君子乎？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吾日三省乎吾身。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饭疏食饮水、曲肱而枕之，乐亦在其中矣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不义而富且贵，于我如浮云。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三人行，必有我师焉。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三军可夺帅也，匹夫不可夺志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6480" y="289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课文总结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048480" y="151200"/>
            <a:ext cx="2812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总结  （一）通假字：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不亦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说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乎。（说：同悦，喜悦、愉快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吾十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有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五而志于学。（有：同又，放在整数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零数之间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16400" y="2132280"/>
            <a:ext cx="5879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（二）古今异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1..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不亦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君子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乎  古：道德上有修养的人 今：泛指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德高尚的人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可以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为师矣 古：可以、凭借 今：可能、许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饭疏食饮水 古：粗劣  今：疏通、疏散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4.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饭疏食饮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水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 古：冷水  今：无色无味无臭的液体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5.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匹夫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不可夺志也 古：普通人  今：无学识、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智谋的人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6.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吾日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三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省吾身 古：多次 今：数词，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479600" y="808560"/>
            <a:ext cx="5957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（三）词类活用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学而时习之  时：名词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-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状语，按时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吾日三省吾身  日：名词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-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状语，每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温故而知新  故、新：形容词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-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名词，旧的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知识、新的体会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4.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传不习乎  传：动词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-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名词，传授的知识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5.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饭疏食饮水  饭：名词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-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动词，吃饭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6.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好之者不如乐之者  乐：名词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-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意动。以„„为乐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24000" y="214560"/>
            <a:ext cx="76006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（四）一词多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为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：  可以为师矣    （当，做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为人谋而不忠乎    （替）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知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:     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人不知而不愠       （了解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温故而知新        （懂得）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而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:    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人不知而不愠       （表转折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温故而知新         （表顺承）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博学而笃志         （表并列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其 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:  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仁在其中矣         （它的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其不善者而改之     （他人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835280" y="898920"/>
            <a:ext cx="5365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（四）特殊句式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省略句： 可以为师矣。“以”后面省略代词“之”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其不善者而改之。句首省略动词“择”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判断句： 贤哉，回也！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三军可夺帅也，匹夫不可夺志也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0920" y="7650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2421000"/>
            <a:ext cx="8540640" cy="38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要求能疏通文意，掌握本文的主要内容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掌握关于学习方法与学习态度的名言警句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了解《论语》的基本情况及孔子的教育思想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0" descr="2006211114707"/>
          <p:cNvPicPr/>
          <p:nvPr/>
        </p:nvPicPr>
        <p:blipFill>
          <a:blip r:embed="rId2"/>
          <a:stretch/>
        </p:blipFill>
        <p:spPr>
          <a:xfrm>
            <a:off x="685800" y="762120"/>
            <a:ext cx="7620120" cy="5057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62520" y="5943600"/>
            <a:ext cx="1726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dc5900"/>
                </a:solidFill>
                <a:uFillTx/>
                <a:latin typeface="Arial"/>
                <a:ea typeface="仿宋_GB2312"/>
                <a:hlinkClick r:id="rId3"/>
              </a:rPr>
              <a:t>点此播放视频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1680" y="6094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08360" y="2205000"/>
            <a:ext cx="5057640" cy="41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孔子（前</a:t>
            </a:r>
            <a:r>
              <a:rPr b="0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551</a:t>
            </a:r>
            <a:r>
              <a:rPr b="0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～前</a:t>
            </a:r>
            <a:r>
              <a:rPr b="0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479</a:t>
            </a:r>
            <a:r>
              <a:rPr b="0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名丘，字仲尼，春秋末期鲁国陬邑（今山东曲阜东南）人。他是我国古代伟大的思想家，教育家，儒家学派的开创者，被公认为世界文化名人之一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11280" y="2492280"/>
            <a:ext cx="2736720" cy="3095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819520" y="1523880"/>
            <a:ext cx="1726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dc5900"/>
                </a:solidFill>
                <a:uFillTx/>
                <a:latin typeface="Arial"/>
                <a:ea typeface="仿宋_GB2312"/>
                <a:hlinkClick r:id="rId3"/>
              </a:rPr>
              <a:t>点此播放教学视频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0" y="685800"/>
            <a:ext cx="86868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政治思想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创立了以仁为核心的道德学说，政治上主张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“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仁者爱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“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克己复礼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”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自己也是一个很善良的人，富有同情心，乐于助人，待人真诚、宽厚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己所不欲，毋施于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君子成人之美，不成人之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，都是他的做人准则。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52280" y="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思想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76320" y="4267080"/>
            <a:ext cx="88390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教育思想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视教育的作用提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教无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诲人不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228600" y="0"/>
            <a:ext cx="8458200" cy="32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孔子是我国古代著名的思想家、教育家、儒家学派创始人。孔子还是一位古文献整理家，曾修《诗》、《书》，定《礼》、《乐》，序《周易》，作《春秋》。孔子的思想及学说对后世产生了极其深远的影响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76320" y="2666880"/>
            <a:ext cx="9144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《论语》简介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《论语》是儒家经典著作。是由孔子的弟子及后学弟子的门人所记，所以书中的称谓、体例及文章风格都不一致。班固说：“当时弟子各有所记，孔子既卒。门人相与辑而论纂，故谓之《论语》。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10560" y="75240"/>
            <a:ext cx="636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子曰：“学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而时习之，不亦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说乎？有朋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自远方来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不亦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乐乎？人不知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而不愠，不亦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君子乎？”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94720" y="1294560"/>
            <a:ext cx="581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曾子曰：“吾日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三省吾身：为人谋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而不忠乎？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朋友交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而不信乎？传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不习乎？”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29200" y="2483280"/>
            <a:ext cx="61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子曰：“吾十有五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而志于学，三十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而立，四十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不惑，五十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而知天命，六十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而耳顺，七十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而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心所欲，不逾矩。”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4240" y="4068000"/>
            <a:ext cx="40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子曰：“温故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而知新，可以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为师矣。”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8160" y="4753800"/>
            <a:ext cx="53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子曰：“学而不思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则罔，思而不学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则殆。”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69640" y="5485320"/>
            <a:ext cx="319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子曰：“ 贤哉，回也！一箪食，一瓢饮，在陋巷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人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不堪其忧，回也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不改其乐。贤哉，回也！”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699200" y="226080"/>
            <a:ext cx="631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子曰：“知之者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不如好之者，好之者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不如乐之者。”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11040" y="1065960"/>
            <a:ext cx="618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子曰：“饭疏食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饮水，曲肱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而枕之，乐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亦在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其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中矣。不义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而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富且贵，于我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如浮云。”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08040" y="2361240"/>
            <a:ext cx="430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子曰：“三人行，必有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我师焉。择其善者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而从之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其不善者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而改之。”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67720" y="361080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子在川上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曰：“逝者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如斯夫，不舍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昼夜。”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7120" y="449496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子曰：“三军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可夺帅也，匹夫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不可夺志也。”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69080" y="5318640"/>
            <a:ext cx="557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子夏曰：“博学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而笃志，切问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而近思，仁在其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中矣”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1-23T11:42:0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